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8EF-F9A2-461E-80C9-B833D4C5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EAF-76A7-4574-94B0-2D681833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059-E423-4CC9-B869-119FD554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78C-E008-4AA2-B833-5D4858DB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C1BE-BC40-4BA7-A288-88AEFCD9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1E42-D9DF-48B1-9FF8-5D8DAF6F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5742-1DF0-4F0D-A113-8046FD50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7D82-9A41-4A76-AEBF-A687959D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6E08-7406-4CDC-AF11-F0574ADE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1B5D-9C21-4343-B171-1B3DEACF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81D7-4F46-46C6-8BEC-0BD316A1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DE8-7345-4F40-A4A8-FF83AB4A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4008-EA3B-4F34-9909-89258A6F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ADEE-B4BE-438C-8753-5593E051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DE58-396B-4F15-892B-337E433B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0ED5-C2CF-45BC-B510-0F455B5E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3130-645A-43A7-AF46-42099EE2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238-450A-4678-BB61-79028895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0A2-9AB3-4BC9-8EDA-EA8EFAE8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B07-1B5C-4344-8CA8-B4DE82CF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563-3DE1-4987-B89F-98C5261B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BFB-6C2A-4AC0-9B0B-3226BB14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086-3132-4775-A553-8EAC30D0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3A9-B86B-4D64-ABDF-518CF305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" name="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techstri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F7E0-7FD2-44F1-8052-442EBA8862DF}" type="slidenum">
              <a:rPr b="0" lang="en-US" sz="1400" spc="-1" strike="noStrike">
                <a:solidFill>
                  <a:srgbClr val="ff99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techstrip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B05D-8ABD-48EE-9A57-7297118A9C1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904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E</a:t>
            </a:r>
            <a:r>
              <a:rPr b="0" lang="en-US" sz="3600" spc="-1" strike="noStrike">
                <a:solidFill>
                  <a:srgbClr val="ffc545"/>
                </a:solidFill>
                <a:latin typeface="Arial Unicode MS"/>
              </a:rPr>
              <a:t>ingabe – </a:t>
            </a: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V</a:t>
            </a:r>
            <a:r>
              <a:rPr b="0" lang="en-US" sz="3600" spc="-1" strike="noStrike">
                <a:solidFill>
                  <a:srgbClr val="ffc545"/>
                </a:solidFill>
                <a:latin typeface="Arial Unicode MS"/>
              </a:rPr>
              <a:t>erarbeitung – </a:t>
            </a: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A</a:t>
            </a:r>
            <a:r>
              <a:rPr b="0" lang="en-US" sz="3600" spc="-1" strike="noStrike">
                <a:solidFill>
                  <a:srgbClr val="ffc545"/>
                </a:solidFill>
                <a:latin typeface="Arial Unicode MS"/>
              </a:rPr>
              <a:t>usgabe</a:t>
            </a:r>
            <a:endParaRPr b="0" lang="en-US" sz="36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a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rinzip des Comp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586728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Vornam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62120" y="6315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Ein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6324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Verarb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6324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Aus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457200"/>
            <a:ext cx="830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Jeder Comput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arbeitet nach dem Prinzip 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Arial Unicode MS"/>
              </a:rPr>
              <a:t>Eingabe – Verarbeitung – Ausgabe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33526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Unicode MS"/>
              </a:rPr>
              <a:t>Eingabe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Tastatur, Maus, Scanner, K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5029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Unicode MS"/>
              </a:rPr>
              <a:t>Ausgabe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Drucker, Monitor, Lautspre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191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 Unicode MS"/>
              </a:rPr>
              <a:t>Verarbeitung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Motherboard mit Proz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457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Eingabe - Tastat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21" descr="Armin bedient die Tastatur."/>
          <p:cNvPicPr/>
          <p:nvPr/>
        </p:nvPicPr>
        <p:blipFill>
          <a:blip r:embed="rId1"/>
          <a:stretch/>
        </p:blipFill>
        <p:spPr>
          <a:xfrm>
            <a:off x="609480" y="1600200"/>
            <a:ext cx="2525760" cy="2068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657600" y="144792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rch de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stendruc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ntsteht e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omimpul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für gibt es eine Liste mit den Codes für die Verschlüsselu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419112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"A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eißt z. B. elektrisch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"0-1-0-0-0-0-0-1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6324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Verarb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6324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Aus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6315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gabe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457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Eingabe - Sc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144792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r Scanner ist ein Gerät zur Erfassung von Daten, welches ein Objekt vermisst oder abtast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895480"/>
            <a:ext cx="53337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annerty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lachbettscan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and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a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aser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180px-Flachbettscanner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317680" cy="3181320"/>
          </a:xfrm>
          <a:prstGeom prst="rect">
            <a:avLst/>
          </a:prstGeom>
          <a:ln w="0">
            <a:noFill/>
          </a:ln>
        </p:spPr>
      </p:pic>
      <p:pic>
        <p:nvPicPr>
          <p:cNvPr id="190" name="180px-Handscanner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2286000" cy="1613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276720" y="6324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Verarb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6324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315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38080" y="6094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Verarbeit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8" descr="CPU"/>
          <p:cNvPicPr/>
          <p:nvPr/>
        </p:nvPicPr>
        <p:blipFill>
          <a:blip r:embed="rId1"/>
          <a:stretch/>
        </p:blipFill>
        <p:spPr>
          <a:xfrm>
            <a:off x="5867280" y="990720"/>
            <a:ext cx="2365560" cy="1896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3520" y="3048120"/>
            <a:ext cx="7924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inzigen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chalter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 die über die Software mitgeteilt bekommen, wann wer welchen Strom durchlassen soll oder auch ni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ußerdem befindet sich darauf unter einem Ventilator die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"CPU"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n nennt sie auch den "Prozessor". Ohne Prozessor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läuft in einem Computer übrigens gar nichts.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9051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e Verarbeitung findet auf dem "Motherboard" statt. Auf dem Motherboard sitzen Millionen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6324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Verarb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6324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6315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14400" y="3808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Ausgabe - Moni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19" descr="Monitor mit Symbolen"/>
          <p:cNvPicPr/>
          <p:nvPr/>
        </p:nvPicPr>
        <p:blipFill>
          <a:blip r:embed="rId1"/>
          <a:stretch/>
        </p:blipFill>
        <p:spPr>
          <a:xfrm>
            <a:off x="914400" y="1447920"/>
            <a:ext cx="2525760" cy="2206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41911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n unterscheidet Röhren- und Flachbildschirme. Wichtige Eigenschaften sind die Bildschirmdiagonale und die Auflös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98108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in Bildschirm ist ein Ausgabegerät zur Darstellung von Zeichen oder Bild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6324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Verarb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6324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gab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6315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14400" y="3808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Ausgabe - Dru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6002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in Drucker ist ein Peripheriegerät, das aufbereitete digitale Zeichen und Bilder ausgib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27432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eute gebräuchliche Drucker sind der Tintenstrahl- und der Laserdru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Kyocera_fs680" descr=""/>
          <p:cNvPicPr/>
          <p:nvPr/>
        </p:nvPicPr>
        <p:blipFill>
          <a:blip r:embed="rId1"/>
          <a:stretch/>
        </p:blipFill>
        <p:spPr>
          <a:xfrm>
            <a:off x="5029200" y="3733920"/>
            <a:ext cx="2000160" cy="1800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276720" y="6324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Verarb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6324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6315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1:21:08Z</dcterms:created>
  <dc:creator>Kurs</dc:creator>
  <dc:description/>
  <dc:language>en-US</dc:language>
  <cp:lastModifiedBy>Kurs</cp:lastModifiedBy>
  <dcterms:modified xsi:type="dcterms:W3CDTF">2005-10-06T14:02:59Z</dcterms:modified>
  <cp:revision>17</cp:revision>
  <dc:subject/>
  <dc:title>Eingabe – Ausgabe - Verarbeitung</dc:title>
</cp:coreProperties>
</file>